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D2B-68BC-469F-8653-E9445468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ABC-B145-40C3-80C5-0BEB230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BDA-0D8F-48DA-80B5-94CEAAEB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E3B-D2AC-48D6-9946-40DCCCFE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36F-3A5E-4A59-AC30-9D4DDCDB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0DBB-5DBA-4868-981C-910156D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1D1-3254-4155-895B-19452ED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046-4E30-481C-932E-E43B419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9DFB-E846-4CDD-BA05-469EB6D8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943-53C5-44AA-8084-D1A1AB0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1B6-D8D8-4929-8A4B-083F41EB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1D5-FB24-459C-A6E4-B985483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32E-6293-4F93-9388-50B4553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B87B-5C68-43A1-96BC-F2B1957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FD5E-81FF-4C9B-9AFA-C4558C2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677-37DE-4724-9738-15103EDC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373D-C890-4170-9447-AD5C0857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0B6-D9FA-4A6C-B6AF-5FDE53F6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E80-8FCB-4CB8-8513-417E5C46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6B0-D2D0-4D99-86F2-C4C022B5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539-79E5-425B-AF04-381936C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FE1-4FE6-4A3E-B9A8-B5EDDE0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172-2E32-4922-A4BD-FE02E2F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B92-0776-4BDE-87BD-B7D037B1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301-4B4A-4F20-8282-C166BBB02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DAB-F74E-4BF9-B629-BA621C954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storicalvoices.org/1930s/crash/hoover/images/hoover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-1800"/>
            <a:ext cx="767880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o you have any idea why the Great Depression occurred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F.  Financial Collapse: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anks &amp; Business’s Suffer*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s close and have no insuranc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loans to specu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ositors money went into stocks – what does this mean? People lose their mone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that stayed open give less loans=Businesses go bank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 runs –people take out their money from the banks = collapse of b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federal deficit and unemployment wksht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.  The top reasons why the Great Depression took place!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1:  Overproduction*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many products, not enough people to buy the produ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2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Uneven distribution of Incom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The Ri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held 90% of the U.S. inco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he P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held only 10% of the U.S.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5" descr="Filthy Rich"/>
          <p:cNvPicPr/>
          <p:nvPr/>
        </p:nvPicPr>
        <p:blipFill>
          <a:blip r:embed="rId1"/>
          <a:stretch/>
        </p:blipFill>
        <p:spPr>
          <a:xfrm>
            <a:off x="838080" y="4127400"/>
            <a:ext cx="3581640" cy="2730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poverty_10_06"/>
          <p:cNvPicPr/>
          <p:nvPr/>
        </p:nvPicPr>
        <p:blipFill>
          <a:blip r:embed="rId2"/>
          <a:stretch/>
        </p:blipFill>
        <p:spPr>
          <a:xfrm>
            <a:off x="5105520" y="1905120"/>
            <a:ext cx="30765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6264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Reason #3: Consumers have less money to spend &amp; have too much credi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the early 1920’s most bought on installment pl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s default on loans = who doesn’t get pa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j0283209"/>
          <p:cNvPicPr/>
          <p:nvPr/>
        </p:nvPicPr>
        <p:blipFill>
          <a:blip r:embed="rId1"/>
          <a:stretch/>
        </p:blipFill>
        <p:spPr>
          <a:xfrm>
            <a:off x="4800600" y="2286000"/>
            <a:ext cx="3886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ason #4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ouble with Industr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975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pple effect in many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286000" y="-126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6" descr="BD06288_"/>
          <p:cNvPicPr/>
          <p:nvPr/>
        </p:nvPicPr>
        <p:blipFill>
          <a:blip r:embed="rId1"/>
          <a:stretch/>
        </p:blipFill>
        <p:spPr>
          <a:xfrm>
            <a:off x="4114800" y="3048120"/>
            <a:ext cx="1817640" cy="93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TN00561_"/>
          <p:cNvPicPr/>
          <p:nvPr/>
        </p:nvPicPr>
        <p:blipFill>
          <a:blip r:embed="rId2"/>
          <a:stretch/>
        </p:blipFill>
        <p:spPr>
          <a:xfrm>
            <a:off x="6019920" y="1600200"/>
            <a:ext cx="1363680" cy="1038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IN00561_"/>
          <p:cNvPicPr/>
          <p:nvPr/>
        </p:nvPicPr>
        <p:blipFill>
          <a:blip r:embed="rId3"/>
          <a:stretch/>
        </p:blipFill>
        <p:spPr>
          <a:xfrm>
            <a:off x="7772400" y="2590920"/>
            <a:ext cx="1162080" cy="1447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TN00332_"/>
          <p:cNvPicPr/>
          <p:nvPr/>
        </p:nvPicPr>
        <p:blipFill>
          <a:blip r:embed="rId4"/>
          <a:stretch/>
        </p:blipFill>
        <p:spPr>
          <a:xfrm>
            <a:off x="6019920" y="4191120"/>
            <a:ext cx="1908000" cy="94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MP00640_"/>
          <p:cNvPicPr/>
          <p:nvPr/>
        </p:nvPicPr>
        <p:blipFill>
          <a:blip r:embed="rId5"/>
          <a:stretch/>
        </p:blipFill>
        <p:spPr>
          <a:xfrm>
            <a:off x="6248520" y="2819520"/>
            <a:ext cx="1284120" cy="1279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E01838_"/>
          <p:cNvPicPr/>
          <p:nvPr/>
        </p:nvPicPr>
        <p:blipFill>
          <a:blip r:embed="rId6"/>
          <a:stretch/>
        </p:blipFill>
        <p:spPr>
          <a:xfrm>
            <a:off x="2286000" y="4648320"/>
            <a:ext cx="1655640" cy="1587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PE01460_"/>
          <p:cNvPicPr/>
          <p:nvPr/>
        </p:nvPicPr>
        <p:blipFill>
          <a:blip r:embed="rId7"/>
          <a:stretch/>
        </p:blipFill>
        <p:spPr>
          <a:xfrm>
            <a:off x="914400" y="3352680"/>
            <a:ext cx="15177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eason #5:  Decrease in export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wley-Smoot Tariff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iff designed to protect American indus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 American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t backfire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s not able to sell their products to U.S. and U.S not able to sell their products to Europe = loss of income for countries =increased unemployment and decreased ex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e world wide decreased by 4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eason #6:  Federal Reserve’s Mistake*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est rate kept low = encouraged risky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uld have increased interest rates soo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ression Hits World Wid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Yesterday’s/Today’s Salar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20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5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d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2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/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 .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400" y="1758600"/>
            <a:ext cx="76788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11: 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5" name="Rectangle 66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.1:  The Causes of the Great Depres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.  Election of 1928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bert Hoover (R) vs.  Alfred Smith [(D) and Catholic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in America are nearer to the final triumph over poverty than ever before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icken in every pot and two cars in every garag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 Wins by a landslide*- life was good in the 1920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hoover1_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752480"/>
            <a:ext cx="352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.  The Stock market Soa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 Jones Industrial Averag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ion that measure how well the stock market is doing; top 30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ull 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1920s*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 period of rising stock pri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s people to inv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ar marke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003366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Dreams of becoming Rich via           </a:t>
            </a:r>
            <a:r>
              <a:rPr b="0" i="1" lang="en-US" sz="3600" spc="-1" strike="noStrike">
                <a:solidFill>
                  <a:srgbClr val="003366"/>
                </a:solidFill>
                <a:latin typeface="Verdana"/>
              </a:rPr>
              <a:t>Stock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1.  *Spec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?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ying stocks on ___ that they increase in value; ignoring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more buying = increased value of stock but only on __?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-47520" y="2425680"/>
            <a:ext cx="2276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4752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7" descr="Stock Market Exchange"/>
          <p:cNvPicPr/>
          <p:nvPr/>
        </p:nvPicPr>
        <p:blipFill>
          <a:blip r:embed="rId1"/>
          <a:stretch/>
        </p:blipFill>
        <p:spPr>
          <a:xfrm>
            <a:off x="4572000" y="2203560"/>
            <a:ext cx="45720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.  *Buying on Marg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y a portion of a stock price as a down payment (25%) and t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orrow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t (75%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ck = $10,  you only have $2.50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 you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do you se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374400"/>
            <a:ext cx="81630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E.  BLACK TUESDAY!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“The bottom fell out of the market!”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CTOBER 29, 1929!!!!!!!!!!!!!!!!!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many people sold thei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prices of stocks dropped = more people sell their sha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ings lost =$30 Billion/16 million sha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1-12-05T20:56:12Z</dcterms:modified>
  <cp:revision>12</cp:revision>
  <dc:subject/>
  <dc:title>PowerPoint Presentation</dc:title>
</cp:coreProperties>
</file>